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35FD-AE21-4B59-9E3F-06840369C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F6D0-0934-40DB-B79A-EA9F670B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A66F-2567-45F2-A44C-1B76F50F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B32A-438F-44A9-A253-B5BBB1D8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5B3A-874B-4246-8378-C48902B6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8A8E-B922-4CA6-AE2D-8D53988A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5D8B-3863-4D3C-8D01-F0F93C2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0DD4-64C3-4915-9E28-510D25E2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42E2-AD9F-4115-9967-26F07CE9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35DD-9DF9-4C88-8CEC-264D962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178C-3DA1-4502-B26F-C289D05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62FF-7F21-49D4-9756-CD36E7C94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 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10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9450B7C4-80E4-4D62-B643-60A2EB225213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ACB0-72E9-42F2-BF2C-1FBE0210F05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lanation of how we get time N*log(N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mergetime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22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A.length &gt; 1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plit the array into two piec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s close to the same size as possi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first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0, A.length/2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last 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A.length/2, A.length);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ort each of the two halves recursiv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fir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 the two sorted halves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first, 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splitt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extract: returns a subarray of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tarting with index start in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continuing to (but not including) index la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[]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start, int last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ret = new int[last - start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int i = 0; i &lt; ret.length; i++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[i] = A[start + 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re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merg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: merges arrays a and b, placing the result in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rray dest. This only works if both a and b are already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increasing ord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dest, int[] a, int[] b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(i &lt; a.length &amp;&amp; j &lt; b.length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(a[i] &lt; b[j]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i &lt; a.length; i++) 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j &lt; b.length; j++) 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normally fast, N*log(N) in average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omplexi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N*log(N) in average case, but N*N in worst case. However, in practice typically a bit faster than always N*log(N)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ice proper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es not need extra memory for temporary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is a bit similar to mergesor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plit an array into two parts (not necessarily equal size) so that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ll elements in first part are smaller than all elements of the second par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 order to do that, pick a probably-average-size element (pivot)  to split an array into smaller-element and larger-element sub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all quicksort recursively on both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nally everything is sort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B!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 performs badly if we have no luck when choosing pivot. In worst case, one half of array contains just one elem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&lt;= lo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 list has length one or zero.  Nothing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o be done, so just return from the subrout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pply quicksortStep and get the pivot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n apply quicksort to sort the items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precede the pivot and the items that follow 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Position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lo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(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, lo, pivotPosition - 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pivotPosition + 1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 inn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 = A[lo];  // Get the pivot value.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) {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hi] &gt; pivot) hi--;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A[h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++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lo] &lt; pivot) lo++;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hi] = A[lo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hi--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// end while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pivo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lo;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// end Quicksort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: some comparis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e will have a look at the sorting applets running in parallel and Eck sorting lab timing 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600cc"/>
                </a:solidFill>
                <a:uFillTx/>
                <a:latin typeface="Courier New"/>
              </a:rPr>
              <a:t>http://math.hws.edu/TMCM/java/xSortLab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600cc"/>
                </a:solidFill>
                <a:uFillTx/>
                <a:latin typeface="Courier New"/>
              </a:rPr>
              <a:t>http://www.cs.ubc.ca/spider/harrison/Java/sorting-demo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lmanda praktikumi etteprogrameerimise jät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arne ot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eeri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eglased sorteerimisalgoritmid: keerukus N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e sort: keerukus N*lo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: hea keskmine keerukus, halb halvim ju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rdlusi ja näit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Kolmanda praxi etteprogrammeerimise jät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naarne otsin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vl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aive, simple sorting algorithms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N tri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(quadratic time)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bubble sort, insertion sort, selection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ptimal algorithms (several meanings of “optimal”)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log(N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ries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merge sort, heap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ssibly infinite number of different sorting algorithms can be devi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or example, “Quicksort” is bad on worst case, but very good on average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 (slow): partial algorithm at fir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(int[] A, int itemsInArray, int newItem) {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InArray - 1;  // Start at the end of the array.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* Move items bigger than newItem up one spac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op when a smaller item is encountered or when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beginning of the array (loc == 0) is reached. */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new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newItem;  // Put newItem in last vacated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: full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shift each next element to a right place in a sorted part of arr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ionSort(int[] A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itemsSorted; // Number of items that have been sorted so f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for (itemsSorted = 1; itemsSorted &lt; A.length; itemsSorted++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temp = A[itemsSorted];  // The item to be inse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Sorted - 1;  // Start at end of list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temp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temp; // Put temp in last vacated sp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1" name="fig4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13480" cy="529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fast, N*log(N) in worst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lt;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n the array is already sorted. Stop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gt;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we perform the following three steps in sequ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lef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righ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ge the now-sorted left and right hal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rst phase, recursively split an array into small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cond phase: merge sorted parts, preserving right or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hy it works fast: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ing two sorted arrays into one is simple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mplexity (speed):  X*X   &gt;   2 * ((X/2)*(X/2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7620120" y="3124080"/>
            <a:ext cx="30456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3505320"/>
            <a:ext cx="30456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3505320"/>
            <a:ext cx="30492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31240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391160" y="3505320"/>
            <a:ext cx="22860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076960" y="3581280"/>
            <a:ext cx="22860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4956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95720" y="4495680"/>
            <a:ext cx="22860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4495680"/>
            <a:ext cx="38088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458200" y="4495680"/>
            <a:ext cx="763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152920" y="4952880"/>
            <a:ext cx="22860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49528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0-31T07:18:44Z</dcterms:modified>
  <cp:revision>16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